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502-770C-4957-B73E-4DAE4E74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3D1-B426-4BAD-A5D1-4ABC0955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4967-6B8B-43CE-AFBA-04E7FE58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EBF-9799-466A-AE71-02CBA1E2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861A-6FB7-46A0-A1F9-1DA99495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C9CC-10B4-4642-9C98-ACFB0009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3003-1D98-4E94-A1E2-97042618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3CDC-DF47-40CC-8C0A-7337C13E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E461-31E7-45AC-9DE6-EF416A36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DC75-F92D-4D80-9A3D-1BAEA1BA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09DB-1966-4BCA-B641-E314142C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CBD-A2B1-4752-8A73-DFB1F69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0FE9-65F0-4579-91B4-B0784F66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37C5-E57E-42E3-9604-B5FBD8F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1E8E-7A5B-4EB4-B7F4-572327B0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44DC-7EA3-4487-A2CC-B127774D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AEB5-95F1-4E43-B167-B944EB19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9A1-78F2-4172-AAE7-5E36CD7E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C18-1F94-412C-9697-A69A3A6B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055-1C72-486B-B9B3-67590C64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52DB-D41E-4BA9-8E95-F628AD82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25C-6192-4BA5-8A39-E8E822D8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702-F85E-4603-97E9-6569F945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563B-CB98-4C14-82CC-7E2D4144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CD76-C419-403B-A959-6451A5851E76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67D1-527B-4A92-B79B-2451B07BFC0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ейно-родовой ми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03640" y="4220640"/>
            <a:ext cx="511344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29"/>
                </a:solidFill>
                <a:latin typeface="Arial"/>
              </a:rPr>
              <a:t>центральная проблема романа М.Е.Салтыкова-Щедрина «Господа Головлевы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9440" y="3429000"/>
            <a:ext cx="24080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Обратимся к «Словарю русского языка»</a:t>
            </a:r>
            <a:br>
              <a:rPr sz="2800"/>
            </a:b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С. И. Ожег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Семья – это группа живущи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вместе родственников,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объединение людей, сплоченны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едиными интересами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Род- коллектив кровных родственников, ведущих происхождение от общего предк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Мир -  объединённое по каким–н. признакам человеческое общество, общественная среда, стро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Что такое сем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себя продала за 6 тыс. душ для братьев…(А.Смирнова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 признаюсь, для меня даже противно видеть, когда мать хвастается своим сыном. (Н.Гоголь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не люблю, а так, не знаю, как тебе сказать. Без тебя и когда вот так у нас какая-то кошка пробежит, я как будто пропал и ничего не могу. (Н.Ростов, «Война и мир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Хочешь быть счастливым? Выучись сперва страдать. (И.Тургенев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ведь дети образ Христов…он велел их чтить и любить, они будущее человечество. (Р.Раскольников, «Преступление и наказание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Рубль в России 188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одержание больницы в год – 3500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Жалованье врача – 1000-15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фельдшера – 3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начальника станции – 2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Машиниста – 447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Рабочего – 10руб. в месяц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уд хлеба – 96 коп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Домострой –свод правил поведения горож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пошлет Бог кому детей, сыновей и дочерей, то заботиться отцу и матери о чадах своих, обеспечить их и воспитать в доброй науке: учить страху Божию и вежливости и всякому порядку. А со временем, по детям смотря и по возрасту, учить их рукоделию, отец - сыновей, а мать - дочерей, кто чего достоин, какие кому Бог способности даст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тец - глава семьи, его слова - закон. Мать - его помощница. Во всех взглядах на малое или большое - они един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Любите отца своего и мать свою и слушайтесь их, и повинуйтесь им Божески во всем, и старость их чтите, и страдание всякое от всей души на себя возложите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46:41Z</dcterms:created>
  <dc:creator>user</dc:creator>
  <dc:description/>
  <dc:language>en-US</dc:language>
  <cp:lastModifiedBy>user</cp:lastModifiedBy>
  <dcterms:modified xsi:type="dcterms:W3CDTF">2009-01-19T18:06:32Z</dcterms:modified>
  <cp:revision>2</cp:revision>
  <dc:subject/>
  <dc:title>Слайд 1</dc:title>
</cp:coreProperties>
</file>